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13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BE2-2E9A-42B1-AEA0-3D7D8E19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900-E230-43BD-804D-897E6DAE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017-B419-4B6B-95A7-CE2BA294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3E1-4E83-4077-87A6-38DEFD0C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A558-3817-4658-AD34-295BFF17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BEAB-DA10-4337-B91F-5D83450C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D990-2B45-432A-B736-8C568565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4DC0-FEB3-41A9-AE15-5DC15277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1AFC-5798-4840-B0F4-396FD6EB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3C0A-DF9E-402B-912B-7F420FFF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21E0-6261-4482-AF67-3F4B0E28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8BC-D89B-47D4-9A99-BFE613FE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07BD-E706-4D27-80B5-6FD6E062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1145-F45E-4E9F-9D9C-01D295EC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A624-0E8B-4AD8-8ADD-B0B46C36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38CD-5690-40A1-8CC6-19ACBF43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BC3E-A4DF-4BAB-8DC4-B2E43C54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7CF-8926-402E-ADB5-326AAC3C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2F3-3F3B-47F2-AF03-8376D651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A43-7C0A-4E22-B005-870EDFFA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360-034E-415E-8463-3F647107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CFE-F770-4F91-ADB5-36EEB34B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86F-870A-4BDA-84CA-22849AF2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F49-BBB2-4421-ABAF-DDDADAA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80C3-AFF1-4017-8DA6-C46B31C714B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1EC3-AF53-4A07-93A0-AC30337022D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20840" y="853920"/>
            <a:ext cx="8399160" cy="2413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Рисунок 4" descr="semya11.jpg"/>
          <p:cNvPicPr/>
          <p:nvPr/>
        </p:nvPicPr>
        <p:blipFill>
          <a:blip r:embed="rId3"/>
          <a:stretch/>
        </p:blipFill>
        <p:spPr>
          <a:xfrm>
            <a:off x="476280" y="3067200"/>
            <a:ext cx="3906720" cy="29368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15 мая является самым важны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днем в нашей жизни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Международным Днем Семь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C:\Program Files\Microsoft Office\MEDIA\CAGCAT10\j0216724.wmf"/>
          <p:cNvPicPr/>
          <p:nvPr/>
        </p:nvPicPr>
        <p:blipFill>
          <a:blip r:embed="rId1"/>
          <a:stretch/>
        </p:blipFill>
        <p:spPr>
          <a:xfrm>
            <a:off x="7072200" y="2786040"/>
            <a:ext cx="1857600" cy="20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4000">
    <p:cut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огда появилось слово семь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огда-то о нем не слыхала 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Но Еве сказал перед свадьбой Ад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Сейчас я тебе 7 вопросов зад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то деток родит мне, богиня моя?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И Ева тихонько ответила: «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Кто платье сошьет, постирает бель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Меня приласкает, украсит жиль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Ответь на вопросы, подруга моя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Я,Я,Я – Ева молвила, - 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Сказала она знаменитых 7 «Я»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3" descr="55166351.jpg"/>
          <p:cNvPicPr/>
          <p:nvPr/>
        </p:nvPicPr>
        <p:blipFill>
          <a:blip r:embed="rId2"/>
          <a:stretch/>
        </p:blipFill>
        <p:spPr>
          <a:xfrm>
            <a:off x="285840" y="4675320"/>
            <a:ext cx="2214360" cy="1611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                      </a:t>
            </a: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Семья – это то, что с                                 тобою рядом всегд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                   </a:t>
            </a: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И пусть стремительно       мчатся года, но дом родной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родные стены навсег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останутся в твоем сердц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3" descr="55296457.jpg"/>
          <p:cNvPicPr/>
          <p:nvPr/>
        </p:nvPicPr>
        <p:blipFill>
          <a:blip r:embed="rId1"/>
          <a:stretch/>
        </p:blipFill>
        <p:spPr>
          <a:xfrm>
            <a:off x="357120" y="1928880"/>
            <a:ext cx="2928960" cy="19288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5ef0f7"/>
                </a:solidFill>
                <a:latin typeface="Arial"/>
              </a:rPr>
              <a:t>Семья</a:t>
            </a:r>
            <a:endParaRPr b="0" lang="en-US" sz="7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– </a:t>
            </a: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это то, что делим на всех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Всем понемножку и в слезы, и  в сме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Взлет и падение, радость, печал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Дружбу и ссоры, молчание, печ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3" descr="55200370.jpg"/>
          <p:cNvPicPr/>
          <p:nvPr/>
        </p:nvPicPr>
        <p:blipFill>
          <a:blip r:embed="rId1"/>
          <a:stretch/>
        </p:blipFill>
        <p:spPr>
          <a:xfrm>
            <a:off x="5248440" y="347760"/>
            <a:ext cx="3305160" cy="297504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             </a:t>
            </a: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У каждого человека должен быть свой дом,        и не просто крыша над голово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     </a:t>
            </a: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где его любят и ждут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где понимают и принимаю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таким, какой он есть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место, где его семь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4" descr="55344822.jpg"/>
          <p:cNvPicPr/>
          <p:nvPr/>
        </p:nvPicPr>
        <p:blipFill>
          <a:blip r:embed="rId1"/>
          <a:stretch/>
        </p:blipFill>
        <p:spPr>
          <a:xfrm>
            <a:off x="176040" y="2451240"/>
            <a:ext cx="2975040" cy="38401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4f271c"/>
                </a:solidFill>
                <a:latin typeface="Arial"/>
              </a:rPr>
              <a:t>А родные стены строятся на:</a:t>
            </a: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928800" y="1930320"/>
            <a:ext cx="171432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643120" y="1930320"/>
            <a:ext cx="171468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гла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2643120" y="2502000"/>
            <a:ext cx="235764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жлив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928800" y="2502000"/>
            <a:ext cx="171432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р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2643120" y="3073680"/>
            <a:ext cx="164304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ж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928800" y="3073680"/>
            <a:ext cx="171432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1"/>
          <p:cNvSpPr/>
          <p:nvPr/>
        </p:nvSpPr>
        <p:spPr>
          <a:xfrm>
            <a:off x="4286160" y="3073680"/>
            <a:ext cx="335772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поним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pull dir="l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23227"/>
                </a:solidFill>
                <a:latin typeface="Times New Roman"/>
              </a:rPr>
              <a:t>А из стен растут дома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23227"/>
                </a:solidFill>
                <a:latin typeface="Times New Roman"/>
              </a:rPr>
              <a:t>А потом и моя маленькая стр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3" descr="semya11.jpg"/>
          <p:cNvPicPr/>
          <p:nvPr/>
        </p:nvPicPr>
        <p:blipFill>
          <a:blip r:embed="rId2"/>
          <a:stretch/>
        </p:blipFill>
        <p:spPr>
          <a:xfrm>
            <a:off x="3090960" y="3413160"/>
            <a:ext cx="4230720" cy="274968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52:56Z</dcterms:created>
  <dc:creator>Your User Name</dc:creator>
  <dc:description/>
  <dc:language>en-US</dc:language>
  <cp:lastModifiedBy>Your User Name</cp:lastModifiedBy>
  <dcterms:modified xsi:type="dcterms:W3CDTF">2008-11-17T22:53:04Z</dcterms:modified>
  <cp:revision>5</cp:revision>
  <dc:subject/>
  <dc:title>Слайд 1</dc:title>
</cp:coreProperties>
</file>