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6.gif" ContentType="image/gif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0.wmf" ContentType="image/x-wmf"/>
  <Override PartName="/ppt/media/image17.wmf" ContentType="image/x-wmf"/>
  <Override PartName="/ppt/media/image9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13.png" ContentType="image/png"/>
  <Override PartName="/ppt/media/image33.wmf" ContentType="image/x-wmf"/>
  <Override PartName="/ppt/media/image37.gif" ContentType="image/gif"/>
  <Override PartName="/ppt/media/image25.wmf" ContentType="image/x-wmf"/>
  <Override PartName="/ppt/media/image34.wmf" ContentType="image/x-wmf"/>
  <Override PartName="/ppt/media/image14.png" ContentType="image/png"/>
  <Override PartName="/ppt/media/image7.png" ContentType="image/png"/>
  <Override PartName="/ppt/media/image15.wmf" ContentType="image/x-wmf"/>
  <Override PartName="/ppt/media/image10.png" ContentType="image/png"/>
  <Override PartName="/ppt/media/image1.jpeg" ContentType="image/jpeg"/>
  <Override PartName="/ppt/media/image12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6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6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F6F-CE44-43F5-AB75-044C231B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CD9-8624-4AC4-99A7-6A840363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D1F7B-9B09-4D4E-98A8-CEC7D683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DBC1C-424E-468C-AACD-BF1BC9BE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2A275-53CB-45DC-A60B-3590BE12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1BFAD-2E8D-4068-AB2E-C9726CEC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5F565-D34E-475A-9394-3CBF2E4D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42C0A-58B0-484B-9803-A9D7B2C0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A3B0F-ED85-4603-BE76-22861735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C8E39-B7B0-4DB5-BA88-ECC2C04D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BEF04-7778-4209-B34E-97E37C6F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B4789-55CE-4965-939C-C4FAEC08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64A-937B-47B6-AB08-ECBC4649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B0073-88D0-4326-826B-167F73DB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5C26B-66B8-4F8A-A04E-F09C4769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F035C-C893-4C7C-B013-08ABD54D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F2DC6-B1D2-45B3-9E31-BBFFEA3F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818DC-F493-43AC-A1B2-A1E946A7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E9DFE-0F20-47B0-A171-0A44D357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4AE4B-A81C-4983-BCDB-1840BA6C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00544-FC0A-4099-A373-D0C5B862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69528-5BE7-4841-977D-89E23FA1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57B42-0C9D-4E54-910A-A8E72773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CD7-99B1-4862-936E-9319E5E6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C4394-2D1C-4448-964F-913578F0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16F03-F647-45FB-B140-DC32C035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E04B1-078E-4480-ABFD-0313D98E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36B75-F091-4B61-9DD2-3B4B69DC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E6300-83FB-49A0-962D-42C1F70A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A89AF-F465-4E3B-954F-4B4E2D8C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A83AB-842B-4826-985A-936A7250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E71A2-F538-4E49-94D5-D438D121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2D948-780F-40E4-B471-152202E6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3033E-77B1-4BAE-9AC8-EE18F833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321A-F280-4C56-A7C2-DF9EF493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2E9B0-56BD-4822-A817-CF9B5EDB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97CD2-92D0-491F-8334-CDEEC0AB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27F62-5A97-408A-81A2-D4A4038C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D58E3-67C9-4A85-82C0-5CFBC60F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3D7E9-F838-4135-882C-FE3B0398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D100A-B080-4DD0-838B-0A66D429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AE41E-012E-4D55-827F-B4A295D6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84A8A-FEDB-47AC-B185-12B94F77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01AC3-79F2-469E-9875-7BD3C93C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B57A9-88B3-4D13-9B33-FB056B6F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64F9-FAD0-4EDD-90A0-559C49C5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626B3-F47B-46CD-B197-1C69C773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BC13A-498F-4956-99BD-11F48D73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53568-9B5D-4A7C-A8AF-F597EF3B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098AF-B7A6-4E86-A27E-B6465999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56CAA-DBC0-4EE7-8D28-E98E0D6A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BCE04-EBDA-44D3-B7AF-4FEA77BA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53B14-A2BB-4AFF-B2AD-7DE15D9D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BCF87-7BDE-42F6-BB89-58C1506E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8DEF6-0DF4-423E-8160-02D4AAF1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4C625-A7F0-4907-ADA7-0F437948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E91B-A7AA-4024-9421-55376ECC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9B672-A00B-4AD0-B974-306242C7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449B6-AF36-451E-B77B-8D89CA4E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1E5D7-C274-4C65-9325-276DA5D8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7663C-0446-4809-8CE8-47E9A311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2FF35-66C8-4E1E-AFE2-BCEE83E5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411E9-CF93-4606-8F9D-51758205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BC49B-6E7C-428C-A7A7-95C4AEF6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D8D40-CF50-46C2-94B8-D94A9979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A4B257-E449-45BF-8915-519178F7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5A99A-1ECA-4681-87FE-09E66429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9A02-8C04-4A2E-BF81-620893FF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B77755-6FA6-4D85-A5E5-064213D4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74589-35A2-43C6-90A3-7F9A5176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186B9-460B-47B7-B691-60403070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6F4DB-9812-4269-A59A-06FDADB7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C6181-FA53-41CC-9A75-23AA6E1F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0F5B0-4048-4672-BE23-FD95F696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433E45-76E0-4D83-97AC-05C8107C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E19BC-0062-400E-8CF8-70C49E57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EBFE0-B420-4121-8F6D-79A7EBD6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898974-74C6-4268-AD25-08444D39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4606-70B3-4AE4-90E8-A1F15DCF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4313E-FB35-408F-B643-926699BD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9AE7CD-8D9D-4545-831E-DE86C7C3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FF52F-6129-494A-8402-0BC297D5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35F42-1E45-4FE1-A592-806856E2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BF0BCF-0C29-4BC9-B45A-53096CB6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8CBC3A-561B-466A-8E5D-B1E647C9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28C785-5378-4B0F-A7DC-43B394D5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34930A-391B-4CCA-BA40-5DB6DDF6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59582-4D81-4CC5-B350-6193DDF1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6E1D39-D55F-447B-9754-F2B1DE96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C2E6-72C5-4EDD-8ABC-9376521C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70BD4-7B6E-4DBD-AB8A-F2423842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74D8B-0191-46F1-B3EF-24C9BC76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78FD6-F45B-4004-9F8A-8DDA4E7D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2C1BD-651D-43D4-9AB6-B5972E76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84BE2E-AC89-4E72-93B2-191CBDE9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F4F052-6148-4DC6-8752-9972711D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9FAA20-997F-4AA8-9833-1A2812D4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B452CF-A649-41E5-8E2C-DB893A62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041D81-2BCD-4245-B8E6-8771ECB3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F966B8-70A4-4A85-AA7E-E6A657A2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0034-1314-4F54-A516-CBA71E94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1A967E-BDAD-4D7C-9FDC-C62F7D34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21037-AB82-4EE6-B659-9CA8B3D0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BA758B-F8C2-41FC-B08F-1FBA9181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D3E1CC-40DF-4344-BB7C-7D2E1C5A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D2B8FB-56DE-428E-AA39-1D2CD320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C29D3F-A742-436C-864A-4196B475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6FCC6-3544-4B90-90FD-18D56B4C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BBF6BA-7D1E-411A-80ED-518864EB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AC3299-8A55-4DBE-825B-54023AF4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606698-2DAA-476C-B3F1-8DBD5590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F11-9740-4FA5-90FC-8ED3BED5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9168-FE5C-4022-903B-0A494358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7313F6-A4F3-441F-8F4B-367769C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909FA7-1D88-485B-A434-97738AE6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85AE13-CDDE-4B28-AF3D-3E9A47FF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488ED-2055-42A9-8E95-398313FE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966A3-DD40-4F93-ACD2-B4450BB7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68DDE6-AEEF-464B-9E26-68B26250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0C5F06-71A7-4E32-955D-D9ADA630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311024-7477-4A44-A4D0-67248E90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CCB47F-8084-48A0-AA91-50451581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2CF33-2088-497C-AF0E-14309CA0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FAA2-E9A9-4916-A36B-50E77E96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85537-419A-47CC-B4E7-38E88647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5CCF9-B7FE-4C2F-8F5B-71185D7B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535BBC-FC57-45BC-9AD7-9C8C52D8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F6A08E-4BF9-47A6-A216-109C64E0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B6438C-1F89-4828-A749-BDD432F3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383EF-B12F-4832-ACBB-07724022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448378-0041-461E-9374-DF3A4741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A8142B-6CA6-49CF-8072-4A8F4CF9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F194CD-0357-4EDB-9E51-61F4BDDE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544652-8F0A-4A99-8D60-EDD75CE8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5E38-0C19-4147-AE56-1757573E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7CC1A9-9DC5-4277-96E7-FF5C96D0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FF2F89-37DA-45B8-B82C-8C72AC7A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70DDB7-9FFE-4FD5-ABC8-12B4E7EB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C48F2-122B-4A93-AF36-3075723E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6C8456-78D2-4633-90C7-E37053BC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231951-6740-4692-8473-B6512367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E70600-E0DF-4512-8E87-BB175968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130668-636B-4485-A46F-F98386A5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78BA03-078F-4909-B956-CF69AD4B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01B5B7-8760-402F-AD01-9D75E21E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0E1A-10DF-4958-88FD-50599BD1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210921-7B83-446F-8E2B-83E31B53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020CCB-D840-4058-B02C-865A8CA2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24DAA6-FDB7-43E1-9AD5-A6A2040D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7F5774-C5BB-4CE3-BA15-3651876A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16F60B-E980-4D56-8514-80495AD2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EC09C4-7E7B-44C5-BDA9-FEEF90B6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A10874-8F22-4E73-826C-454F5029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D71883-4843-4860-BF00-A976B8C8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2F7CCC-A304-4965-8859-09CD49B2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78F9D-9816-4C26-AE8A-B3AD519E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6F37-199B-40E4-90D0-851CA672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83EF72-7841-44BB-9AE2-D14498BE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FF5E02-AC3C-4F3B-8643-D8F6E123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13EBB5-C95E-449B-8AB3-0F6B6F8D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D4EA08-F4EF-438A-9F19-E9E6D8A4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EE72A6-7D34-4B30-8899-70FCFFED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8E03A-BEBE-4920-BEA1-1A201FF2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D8B79D-8B8B-42E6-81D9-4B0A1C38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17437F-D0F6-408C-A69A-B2CB7E76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A1CF42-6C35-4D2E-B9AF-71A41FB8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3D793F-35A6-417E-AF66-881334E2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D8A7E-B15F-4B70-8E0E-08B19223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4C2415-94ED-4440-A06D-67656F10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6C0B2B-3B0A-4F27-ABD2-FCE0A904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B96926-F95C-4C31-8F1D-A150E520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FD1C8A-4786-496C-9495-691F0E6F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B202F8-986C-4185-AC39-EBEBF08B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119489-98FB-4A27-8B32-D2FD8C74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5D6749-0775-45FB-A936-AADCCCFC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CB3C60-942B-49E2-84D8-87334093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43DB90-702C-430F-9CA8-1CF06242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F3440B-891A-43E8-B96B-A511A358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411DF-46CD-4C70-BDCE-66B557AA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34772F-7F0E-46DC-B26E-4593B9E6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08C3F3-0EEF-4E46-94A8-DFAEFECB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B1CC25-1E9D-4909-8F5C-4E3D1E9D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A5CE38-8943-4F12-B938-9B8B59D4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668B01-F29B-4180-AF56-0FB9FB03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938CF7-B253-4F38-91AA-05668370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3240F6-29C2-4192-A9F8-78F5072A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D1B454-E9E1-4A54-A6E3-CF1F2E37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4813C4-DBC9-45A5-BD84-8CCCDC96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79F7D8-11A4-4DF6-8E01-239B453A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403EB-1D8B-4803-B2D4-55844574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F80DDF-9ED4-4538-8515-E589FB85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19AF78-5A2D-4D24-921F-60CDD4A6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7127D0-F4C3-4D3D-A56A-906BE185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39C2B1-5730-4B33-AD79-07D9D57F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47ADF6-8445-44FA-A631-968296F4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BD35AF-B6E8-4707-AD9E-0225C5D3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9E7F02-9D3C-4548-9BD2-70FCDBDF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C9F9BE-94BD-4D39-BB46-DFEF484A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283A5D-EEDC-4FAB-B2E7-342A75B4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3C9758-7309-47E5-9090-F8F7B1C8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E3801-9DD5-49A6-A5DE-8966ADF5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A77FE0-F099-4E89-A2A5-1E3AA6FF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F7BB20-9A48-4F44-8697-184958A3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071F37-51FC-4D77-8FE6-A0945751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9EFCFC-BA2A-4B84-A4FE-0F6A4845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42A74B-242C-498D-9813-BCD02B04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C1B8DC-BD81-4612-AFC5-E50A1BC1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45AB5A-4742-4FF3-8BB7-AC20475B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FB95D9-D5F1-4CB0-9A70-263722F9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70CE87-AEA6-4FCD-A073-E21307AC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D4EEB15-3F2B-41E0-96B3-E250CB00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FCF19-4DA8-46C0-B801-92CCCCE2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474FB51-D6B0-4DDD-BD70-C1D7D7B3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828D595-C565-4123-8F3E-B5100E9F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AFBDD6B-C1E0-4A40-B24D-55B65E5C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8A19839-A2E4-4CBB-8BEB-0DB4F5AE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6CE50BC-9351-496B-84F5-0876A935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6DE28C3-D2BF-4892-BDFF-02C0DF9F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E36C16A-79C7-4EF3-8C94-76E0B902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82C2401-B3CC-413E-90B6-F49BBC79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603F0A1-B76B-4999-83FA-9F647A3A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8A7BF74-0C81-464E-830F-B458A07B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21F-29EE-41A4-A66D-FBCA6B89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E91F9-1044-4768-A5C5-F710051C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6240597-59BD-4297-9C9E-4DAB3A1C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6EA460-C6E2-47F9-964B-3DBA0AC8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10963D-1419-4BCF-9FEE-89FAB1E8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98A26D-7A90-42EE-809D-AAB1717E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A4C78F-E31A-4985-857D-C5B6854B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D44A3F-3743-4687-B509-F55F5E4C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BC43FD-05EB-4F48-9683-9EFD38F8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F836B9-DA39-4B34-AD7D-6EB3F153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5D5C72-740C-464E-B0D0-843FDC69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A0132E-EAFE-4AEA-AE3A-29B2B342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C88B-EE6C-4DED-974B-C7BCC1CB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7186F4-2F8B-49B7-BA17-26B7D16B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51B2C9-C188-4D09-9AFA-06DABF80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036532-1D25-4604-A31B-B1CBD9A4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391ED7-DF20-478D-A4B9-6807154E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A6545B-2593-466A-A23E-73A99FE8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0C327C-C23B-4D7C-AFB3-EE8916A1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F27EFE-2C61-490A-A93F-616D5F46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259279-9DB4-4F4C-8448-DF4DAF49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2D4962-CD4B-45C0-9330-30E86006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CE8980-D9A7-498F-88DB-13E86FA2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45C20-35E5-4347-8074-29D897CD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B1038B-EF2E-4AA2-8F6C-8AC33FE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D5A865-EB04-4E93-8834-D7291098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66E753-EAFC-4E88-B919-4405298D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C675C1-8509-4632-9D55-19246E44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A34BCC-9B62-4C53-B04C-7ECCB841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E5CFBB-29C2-4D8B-BCD4-87BA7E92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A1B42C-933E-4453-B7D5-59A0C810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B46496-D2C9-4DA7-918E-3C7C1DCB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BACFA8-3363-4762-ABA9-E879832F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4F8BF0-AA13-4230-853E-253A0C66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93121-4252-4A13-A87B-6623CBC0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93BCEB-8751-406E-902F-691C0964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3DF881-897A-4A03-B969-34875414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9E7F23-51E4-4858-9E15-E3536AF4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236C9C-CF66-4375-A594-89C09DCF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6BD791-C886-486F-879E-5B8130CF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2175EC-2576-43C8-9515-AB845890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556586-8D9E-47F5-93CE-5EC28A4B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891F7-7059-4CF1-8C2A-8C447110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44304-594E-4D3E-AA65-650FF0D8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D1FBB-4AFB-4116-B995-E485622E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6D87F-8878-4DB7-AE39-79EA94D3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BD704-723E-410F-BEB9-E5E76668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12A1C-267D-4614-90ED-D2EEC785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20C-9B40-4CBB-A4D4-A9B1AFF9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4E75B-506F-4DD1-9F3C-8CF9C93F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7C237-6C03-4EBF-9A23-39220717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38F5D-5B1B-4E83-93FD-DD94BB26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2E288-1DE3-41B1-9513-25CB176A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FBEA6-B81A-4DBF-9953-D6E0A30A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86F18-59D7-4ECA-893F-D4017DE1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46D0-FC4D-4934-9E3A-E3F04158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FC3C4-DDF3-47F7-A2EA-18A860AC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31F52-1CF2-48CC-9D58-308440AD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8C792-3DE0-42C3-AAD8-DC28BBE4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A10-D78F-499E-AC53-0AD13F46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85D00-478B-4742-8BE5-C46F4088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2CDB3-EC16-42B6-91BA-2F583954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CD85B-5495-4F61-BA56-90B4DB13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7A3DB-13BF-4499-8593-1EC8B6EE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BA0A7-EB07-43BD-B218-E926EF76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DD3B4-E4CF-4573-BFBA-1D3FFE8E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A62C8-BCEB-424E-8D26-86525FF3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A0C38-937F-4CFF-85C1-C3363EFA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986A2-DD59-4A3E-B78E-B5BF96A8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18119-003B-438A-9A00-E2086580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36B-2614-49ED-9060-B05FB6B4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39156-8271-4AF0-8768-198CCDDA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0F2EA-F8FB-4762-B04E-3AA0DD01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CB8C9-FA3C-4A62-B779-48E36CD2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88A43-25CB-49BB-B9E7-FC15972D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4BB62-2DD3-45B2-9C6E-AECE5FE6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AFC19-6C4D-4EB0-8818-7366825F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97B3B-B064-4D1B-B2B8-C012A1B4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1A59E-5552-43D3-B9A1-A3616F58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6D1BC-79B5-4D72-AAF3-FBC6CE72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E0E86-D5AA-4642-9142-4D4A6A24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76A-70F0-4C7E-A1B3-08AADAC9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9DD77-E7EC-4179-A518-E5A572C1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6967E-B0C4-4C0E-A659-6520267B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4BCCB-2860-4664-B51B-498A60B2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E6274-0855-46A2-9EA8-0E7AD3CE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4CE43-F256-4A1F-B9C5-56D4DE98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16279-0458-4677-B274-6920D653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DAAB3-CB9B-4BA2-A08C-C706621F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BF2D9-4C52-4BA6-8C07-A3B3359B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6F260-58E0-4C42-8463-BBF79E23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1A83E-1CE8-4682-81AF-D6DAA194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13E-6F92-4822-A670-B8C1112E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4FE29-62EE-4974-8E44-D400CCCB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CAB8B-F3CC-4BAD-951C-E4B082CF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4AFA7-3B8F-4266-AD16-F7CC9293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AB610-BF91-47F8-A3A1-0DECBF50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A74A1-C768-4C09-83F9-4DCEFF8E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90BB4-3CB9-4B3A-ADF2-9BE764E3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61C0D-E91F-4D07-8266-F0A1CB9D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833A8-704B-419F-B239-46753807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02A32-8565-49E4-852A-F33C27B6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B750D-5352-4084-B9C8-03DD54B6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200-B2C6-42D3-8918-F7724432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A0A11-A0D5-4418-867D-85BB2D99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0BE3E-E9B9-47D3-8339-F91CA4D6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F7307-5BC4-40C7-AF15-6E4578AA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FE533-070C-4089-BAF2-041E87E2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C170D-481F-4D09-88D5-021F5F04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C7D29-38A7-4F39-90A3-EBC146CB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73D15-F534-49C8-930C-2D501883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71F27-A695-4A9F-B802-28C8EA85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E6121-817F-4075-B745-337629F3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CF5FD-1387-4327-BF7B-BA0074E5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205.xml"/><Relationship Id="rId32" Type="http://schemas.openxmlformats.org/officeDocument/2006/relationships/slideLayout" Target="../slideLayouts/slideLayout206.xml"/><Relationship Id="rId33" Type="http://schemas.openxmlformats.org/officeDocument/2006/relationships/slideLayout" Target="../slideLayouts/slideLayout207.xml"/><Relationship Id="rId34" Type="http://schemas.openxmlformats.org/officeDocument/2006/relationships/slideLayout" Target="../slideLayouts/slideLayout208.xml"/><Relationship Id="rId35" Type="http://schemas.openxmlformats.org/officeDocument/2006/relationships/slideLayout" Target="../slideLayouts/slideLayout209.xml"/><Relationship Id="rId36" Type="http://schemas.openxmlformats.org/officeDocument/2006/relationships/slideLayout" Target="../slideLayouts/slideLayout210.xml"/><Relationship Id="rId37" Type="http://schemas.openxmlformats.org/officeDocument/2006/relationships/slideLayout" Target="../slideLayouts/slideLayout211.xml"/><Relationship Id="rId38" Type="http://schemas.openxmlformats.org/officeDocument/2006/relationships/slideLayout" Target="../slideLayouts/slideLayout212.xml"/><Relationship Id="rId39" Type="http://schemas.openxmlformats.org/officeDocument/2006/relationships/slideLayout" Target="../slideLayouts/slideLayout213.xml"/><Relationship Id="rId40" Type="http://schemas.openxmlformats.org/officeDocument/2006/relationships/slideLayout" Target="../slideLayouts/slideLayout214.xml"/><Relationship Id="rId41" Type="http://schemas.openxmlformats.org/officeDocument/2006/relationships/slideLayout" Target="../slideLayouts/slideLayout215.xml"/><Relationship Id="rId42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89.xml"/><Relationship Id="rId8" Type="http://schemas.openxmlformats.org/officeDocument/2006/relationships/slideLayout" Target="../slideLayouts/slideLayout290.xml"/><Relationship Id="rId9" Type="http://schemas.openxmlformats.org/officeDocument/2006/relationships/slideLayout" Target="../slideLayouts/slideLayout291.xml"/><Relationship Id="rId10" Type="http://schemas.openxmlformats.org/officeDocument/2006/relationships/slideLayout" Target="../slideLayouts/slideLayout292.xml"/><Relationship Id="rId11" Type="http://schemas.openxmlformats.org/officeDocument/2006/relationships/slideLayout" Target="../slideLayouts/slideLayout293.xml"/><Relationship Id="rId12" Type="http://schemas.openxmlformats.org/officeDocument/2006/relationships/slideLayout" Target="../slideLayouts/slideLayout294.xml"/><Relationship Id="rId13" Type="http://schemas.openxmlformats.org/officeDocument/2006/relationships/slideLayout" Target="../slideLayouts/slideLayout295.xml"/><Relationship Id="rId14" Type="http://schemas.openxmlformats.org/officeDocument/2006/relationships/slideLayout" Target="../slideLayouts/slideLayout296.xml"/><Relationship Id="rId15" Type="http://schemas.openxmlformats.org/officeDocument/2006/relationships/slideLayout" Target="../slideLayouts/slideLayout297.xml"/><Relationship Id="rId16" Type="http://schemas.openxmlformats.org/officeDocument/2006/relationships/slideLayout" Target="../slideLayouts/slideLayout298.xml"/><Relationship Id="rId17" Type="http://schemas.openxmlformats.org/officeDocument/2006/relationships/slideLayout" Target="../slideLayouts/slideLayout299.xml"/><Relationship Id="rId18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2b2b2"/>
                        </a:solidFill>
                        <a:ln w="936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C214-4D62-4E1C-86EA-32D8AA2353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7200e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4A25-CCF6-4659-AD47-77262D02F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5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75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6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4640-B904-4F18-BC66-D2DADD7F68B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0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0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B046-F10D-40D1-B4F8-8AB2FDF639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100000">
              <a:srgbClr val="6b6b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5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5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6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9c9"/>
                  </a:gs>
                  <a:gs pos="100000">
                    <a:srgbClr val="d1d1d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50000">
                    <a:srgbClr val="d1d1d1"/>
                  </a:gs>
                  <a:gs pos="100000">
                    <a:srgbClr val="bdbdb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7523-65E3-464C-A56A-C95DAC14E2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e4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200e4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200e4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100000">
              <a:srgbClr val="6b6b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4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4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5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9c9"/>
                  </a:gs>
                  <a:gs pos="100000">
                    <a:srgbClr val="d1d1d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50000">
                    <a:srgbClr val="d1d1d1"/>
                  </a:gs>
                  <a:gs pos="100000">
                    <a:srgbClr val="bdbdb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3157-EAD9-4DCD-A9C6-A9AB9DFE06D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5000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5000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e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200e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3CAE-54FC-412E-B7DF-38EAACB9B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9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5000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5000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C9CA-98F8-4738-A67C-B459F7AE6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5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cc7d7"/>
                </a:gs>
                <a:gs pos="50000">
                  <a:srgbClr val="ccecff"/>
                </a:gs>
                <a:gs pos="100000">
                  <a:srgbClr val="acc7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5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5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5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6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6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7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7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9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7200e4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7200e4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003399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B108-1520-4A61-B6D4-11F66277F8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4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cc7d7"/>
                </a:gs>
                <a:gs pos="50000">
                  <a:srgbClr val="ccecff"/>
                </a:gs>
                <a:gs pos="100000">
                  <a:srgbClr val="acc7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5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5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5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6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7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7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9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7200e4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7200e4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003399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8006-DFC9-4A30-9BB4-F7D090EAC4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1"/>
    <p:sldLayoutId id="2147483871" r:id="rId32"/>
    <p:sldLayoutId id="2147483872" r:id="rId33"/>
    <p:sldLayoutId id="2147483873" r:id="rId34"/>
    <p:sldLayoutId id="2147483874" r:id="rId35"/>
    <p:sldLayoutId id="2147483875" r:id="rId36"/>
    <p:sldLayoutId id="2147483876" r:id="rId37"/>
    <p:sldLayoutId id="2147483877" r:id="rId38"/>
    <p:sldLayoutId id="2147483878" r:id="rId39"/>
    <p:sldLayoutId id="2147483879" r:id="rId40"/>
    <p:sldLayoutId id="2147483880" r:id="rId41"/>
    <p:sldLayoutId id="2147483881" r:id="rId42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54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fefbf"/>
                </a:gs>
                <a:gs pos="50000">
                  <a:srgbClr val="ffffcc"/>
                </a:gs>
                <a:gs pos="100000">
                  <a:srgbClr val="efef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F445-52A3-4119-BEA8-D270F55BEA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e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2b2b2"/>
                        </a:solidFill>
                        <a:ln w="936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15E5-6B1C-4C91-B5F3-574B8466FD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200e4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60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fefbf"/>
                </a:gs>
                <a:gs pos="50000">
                  <a:srgbClr val="ffffcc"/>
                </a:gs>
                <a:gs pos="100000">
                  <a:srgbClr val="efef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7BA6-DB54-4650-9965-17884F21568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200e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200e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7200e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EE5A-600E-4452-B6FC-3E5C0C2417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D898-CE98-4CEA-A2FC-82B34E70F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21d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73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477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a1e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88e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21bd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029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824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39cc"/>
                </a:gs>
                <a:gs pos="100000">
                  <a:srgbClr val="ff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8a1b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21bd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57d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123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3ece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5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821a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9949a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45cf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21b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7d82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68388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21b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a1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a1e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72b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b18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72b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9949a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21d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824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c828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b8249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45cf"/>
                  </a:gs>
                  <a:gs pos="100000">
                    <a:srgbClr val="ff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D69A-A0D2-4B0A-ADD3-8F0BC54F6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21d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81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477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a1e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88e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21bd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029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824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39cc"/>
                </a:gs>
                <a:gs pos="100000">
                  <a:srgbClr val="ff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8a1b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21bd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57d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123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3ece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5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821a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9949a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45cf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21b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7d82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68388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21b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a1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a1e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72b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b18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72b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9949a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21d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824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c828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85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b8249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45cf"/>
                  </a:gs>
                  <a:gs pos="100000">
                    <a:srgbClr val="ff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E35C-F8C7-4089-AD7F-216AC7048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8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899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7517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4c0f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70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a12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a12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7b1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921d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821a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4" name="PlaceHolder 1"/>
          <p:cNvSpPr>
            <a:spLocks noGrp="1"/>
          </p:cNvSpPr>
          <p:nvPr>
            <p:ph type="sldNum" idx="7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93F6-EE41-4BF0-B3C6-0A9CC8AFC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dt" idx="7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 type="ftr" idx="7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7"/>
    <p:sldLayoutId id="2147483962" r:id="rId8"/>
    <p:sldLayoutId id="2147483963" r:id="rId9"/>
    <p:sldLayoutId id="2147483964" r:id="rId10"/>
    <p:sldLayoutId id="2147483965" r:id="rId11"/>
    <p:sldLayoutId id="2147483966" r:id="rId12"/>
    <p:sldLayoutId id="2147483967" r:id="rId13"/>
    <p:sldLayoutId id="2147483968" r:id="rId14"/>
    <p:sldLayoutId id="2147483969" r:id="rId15"/>
    <p:sldLayoutId id="2147483970" r:id="rId16"/>
    <p:sldLayoutId id="2147483971" r:id="rId17"/>
    <p:sldLayoutId id="2147483972" r:id="rId18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b18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5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156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7517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4c0f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70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a12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a12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7b1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921d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821a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921d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921d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CA76-1CB9-4B6D-9077-AF3634F2A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41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41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41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41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42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42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42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42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43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43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43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43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4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4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4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5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5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5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6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6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6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6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7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7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7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8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8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8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9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49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49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50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50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50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51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51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51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51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52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B2D3-C067-48FD-83C3-AEFA995B0D10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8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58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59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59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59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59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59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60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60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60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61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61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61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61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62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62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62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3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3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3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64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64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64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64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65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65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65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6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66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66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66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7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7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68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68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68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69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69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9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69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69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70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F19C-40E4-45D3-BD35-6D30652AD6A4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3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8435-B088-40B1-B46E-7390E2E88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8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2516-816D-4EDB-AA8F-1AB7BB644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8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F9B3-23E3-4684-95FA-650ADB9AC6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7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941C-DBBB-40C9-87DE-4AFB81A0A3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50000">
              <a:srgbClr val="666699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2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d1d1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e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BD5E-6B1A-4A33-BB71-3209C9E13C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50000">
              <a:srgbClr val="666699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0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d1d1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2397-9494-4694-9345-1A24B83ABC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D651-E171-49B5-A621-56CD47FF7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9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4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gif"/><Relationship Id="rId6" Type="http://schemas.openxmlformats.org/officeDocument/2006/relationships/image" Target="../media/image38.wmf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21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6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1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9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gi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А нужна ли нам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2910960" y="1676160"/>
            <a:ext cx="34801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Семья</a:t>
            </a: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2" name="" descr=""/>
          <p:cNvPicPr/>
          <p:nvPr/>
        </p:nvPicPr>
        <p:blipFill>
          <a:blip r:embed="rId2"/>
          <a:stretch/>
        </p:blipFill>
        <p:spPr>
          <a:xfrm>
            <a:off x="3733920" y="4191120"/>
            <a:ext cx="145080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7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cc33"/>
                </a:solidFill>
                <a:latin typeface="Tahoma"/>
              </a:rPr>
              <a:t>А если у тебя есть семья</a:t>
            </a:r>
            <a:r>
              <a:rPr b="0" lang="en-US" sz="7200" spc="-1" strike="noStrike">
                <a:solidFill>
                  <a:srgbClr val="33cc33"/>
                </a:solidFill>
                <a:latin typeface="Tahoma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22960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f42ec"/>
                </a:solidFill>
                <a:latin typeface="Arial"/>
              </a:rPr>
              <a:t>Ты можешь добиться того же ,что и без семьи, но придя домой ты заметишь</a:t>
            </a:r>
            <a:r>
              <a:rPr b="0" lang="en-US" sz="5400" spc="-1" strike="noStrike">
                <a:solidFill>
                  <a:srgbClr val="7f42ec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9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1841760" cy="1654200"/>
          </a:xfrm>
          <a:prstGeom prst="rect">
            <a:avLst/>
          </a:prstGeom>
          <a:ln w="0">
            <a:noFill/>
          </a:ln>
        </p:spPr>
      </p:pic>
      <p:pic>
        <p:nvPicPr>
          <p:cNvPr id="2790" name="" descr=""/>
          <p:cNvPicPr/>
          <p:nvPr/>
        </p:nvPicPr>
        <p:blipFill>
          <a:blip r:embed="rId3"/>
          <a:stretch/>
        </p:blipFill>
        <p:spPr>
          <a:xfrm>
            <a:off x="3505320" y="380880"/>
            <a:ext cx="2119320" cy="2133720"/>
          </a:xfrm>
          <a:prstGeom prst="rect">
            <a:avLst/>
          </a:prstGeom>
          <a:ln w="0">
            <a:noFill/>
          </a:ln>
        </p:spPr>
      </p:pic>
      <p:pic>
        <p:nvPicPr>
          <p:cNvPr id="2791" name="" descr=""/>
          <p:cNvPicPr/>
          <p:nvPr/>
        </p:nvPicPr>
        <p:blipFill>
          <a:blip r:embed="rId4"/>
          <a:stretch/>
        </p:blipFill>
        <p:spPr>
          <a:xfrm>
            <a:off x="6705720" y="533520"/>
            <a:ext cx="1827000" cy="1827000"/>
          </a:xfrm>
          <a:prstGeom prst="rect">
            <a:avLst/>
          </a:prstGeom>
          <a:ln w="0">
            <a:noFill/>
          </a:ln>
        </p:spPr>
      </p:pic>
      <p:pic>
        <p:nvPicPr>
          <p:cNvPr id="2792" name="" descr=""/>
          <p:cNvPicPr/>
          <p:nvPr/>
        </p:nvPicPr>
        <p:blipFill>
          <a:blip r:embed="rId5"/>
          <a:stretch/>
        </p:blipFill>
        <p:spPr>
          <a:xfrm>
            <a:off x="685800" y="3505320"/>
            <a:ext cx="1979640" cy="2361960"/>
          </a:xfrm>
          <a:prstGeom prst="rect">
            <a:avLst/>
          </a:prstGeom>
          <a:ln w="0">
            <a:noFill/>
          </a:ln>
        </p:spPr>
      </p:pic>
      <p:pic>
        <p:nvPicPr>
          <p:cNvPr id="2793" name="" descr=""/>
          <p:cNvPicPr/>
          <p:nvPr/>
        </p:nvPicPr>
        <p:blipFill>
          <a:blip r:embed="rId6"/>
          <a:stretch/>
        </p:blipFill>
        <p:spPr>
          <a:xfrm>
            <a:off x="3505320" y="3886200"/>
            <a:ext cx="1814400" cy="1528920"/>
          </a:xfrm>
          <a:prstGeom prst="rect">
            <a:avLst/>
          </a:prstGeom>
          <a:ln w="0">
            <a:noFill/>
          </a:ln>
        </p:spPr>
      </p:pic>
      <p:pic>
        <p:nvPicPr>
          <p:cNvPr id="2794" name="" descr=""/>
          <p:cNvPicPr/>
          <p:nvPr/>
        </p:nvPicPr>
        <p:blipFill>
          <a:blip r:embed="rId7"/>
          <a:stretch/>
        </p:blipFill>
        <p:spPr>
          <a:xfrm>
            <a:off x="6400800" y="3733920"/>
            <a:ext cx="2209680" cy="1814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21d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cc"/>
                </a:solidFill>
                <a:latin typeface="Arial"/>
              </a:rPr>
              <a:t>А еще у тебя могут быть дети</a:t>
            </a:r>
            <a:r>
              <a:rPr b="0" lang="en-US" sz="7200" spc="-1" strike="noStrike">
                <a:solidFill>
                  <a:srgbClr val="ffffcc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96" name="" descr=""/>
          <p:cNvPicPr/>
          <p:nvPr/>
        </p:nvPicPr>
        <p:blipFill>
          <a:blip r:embed="rId1"/>
          <a:stretch/>
        </p:blipFill>
        <p:spPr>
          <a:xfrm>
            <a:off x="3733920" y="3962520"/>
            <a:ext cx="1450800" cy="1823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50000">
              <a:srgbClr val="666699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И ты поймешь ,что твоя жизнь прожита не зр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27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bb4eb"/>
                </a:solidFill>
                <a:latin typeface="Garamond"/>
              </a:rPr>
              <a:t>В любой момент тебе могут помочь!</a:t>
            </a:r>
            <a:endParaRPr b="1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Arial Black"/>
              </a:rPr>
              <a:t>Теперь ты можешь наслаждаться жизнью!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ff"/>
                </a:solidFill>
                <a:latin typeface="Arial Black"/>
              </a:rPr>
              <a:t>Семья – это ячейка общества. Создай свою и живи спокойно!</a:t>
            </a:r>
            <a:r>
              <a:rPr b="0" lang="en-US" sz="4000" spc="-1" strike="noStrike">
                <a:solidFill>
                  <a:srgbClr val="00ffff"/>
                </a:solidFill>
                <a:latin typeface="Arial Black"/>
              </a:rPr>
              <a:t>   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837720" y="106668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700" spc="-1" strike="noStrike">
                <a:solidFill>
                  <a:srgbClr val="666699"/>
                </a:solidFill>
                <a:latin typeface="Arial Unicode MS"/>
              </a:rPr>
              <a:t>Что ты оставишь после себя</a:t>
            </a:r>
            <a:r>
              <a:rPr b="0" lang="en-US" sz="7700" spc="-1" strike="noStrike">
                <a:solidFill>
                  <a:srgbClr val="666699"/>
                </a:solidFill>
                <a:latin typeface="Arial Unicode MS"/>
              </a:rPr>
              <a:t>?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4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1474920" cy="1817640"/>
          </a:xfrm>
          <a:prstGeom prst="rect">
            <a:avLst/>
          </a:prstGeom>
          <a:ln w="0">
            <a:noFill/>
          </a:ln>
        </p:spPr>
      </p:pic>
      <p:pic>
        <p:nvPicPr>
          <p:cNvPr id="2765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2766" name=""/>
          <p:cNvSpPr/>
          <p:nvPr/>
        </p:nvSpPr>
        <p:spPr>
          <a:xfrm rot="727200">
            <a:off x="1600200" y="9907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6699"/>
                </a:solidFill>
                <a:latin typeface="Arial"/>
              </a:rPr>
              <a:t>Разруху и ужас</a:t>
            </a:r>
            <a:r>
              <a:rPr b="0" lang="en-US" sz="6600" spc="-1" strike="noStrike">
                <a:solidFill>
                  <a:srgbClr val="666699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7" name="" descr=""/>
          <p:cNvPicPr/>
          <p:nvPr/>
        </p:nvPicPr>
        <p:blipFill>
          <a:blip r:embed="rId3"/>
          <a:stretch/>
        </p:blipFill>
        <p:spPr>
          <a:xfrm>
            <a:off x="5867280" y="4343400"/>
            <a:ext cx="1825920" cy="146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34417"/>
                </a:solidFill>
                <a:latin typeface="Arial"/>
              </a:rPr>
              <a:t>Или жизнь и процветание</a:t>
            </a:r>
            <a:r>
              <a:rPr b="0" lang="en-US" sz="4400" spc="-1" strike="noStrike">
                <a:solidFill>
                  <a:srgbClr val="d34417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057400" cy="1760760"/>
          </a:xfrm>
          <a:prstGeom prst="rect">
            <a:avLst/>
          </a:prstGeom>
          <a:ln w="0">
            <a:noFill/>
          </a:ln>
        </p:spPr>
      </p:pic>
      <p:pic>
        <p:nvPicPr>
          <p:cNvPr id="2770" name="" descr=""/>
          <p:cNvPicPr/>
          <p:nvPr/>
        </p:nvPicPr>
        <p:blipFill>
          <a:blip r:embed="rId2"/>
          <a:stretch/>
        </p:blipFill>
        <p:spPr>
          <a:xfrm>
            <a:off x="3505320" y="2895480"/>
            <a:ext cx="1825560" cy="1725840"/>
          </a:xfrm>
          <a:prstGeom prst="rect">
            <a:avLst/>
          </a:prstGeom>
          <a:ln w="0">
            <a:noFill/>
          </a:ln>
        </p:spPr>
      </p:pic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5562720" y="4267080"/>
            <a:ext cx="2666880" cy="176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50000">
              <a:srgbClr val="666699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38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bbbbf"/>
                </a:solidFill>
                <a:latin typeface="Arial"/>
              </a:rPr>
              <a:t>Мы знаем ,что без семьи ты можешь стать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781280" cy="2209680"/>
          </a:xfrm>
          <a:prstGeom prst="rect">
            <a:avLst/>
          </a:prstGeom>
          <a:ln w="0">
            <a:noFill/>
          </a:ln>
        </p:spPr>
      </p:pic>
      <p:pic>
        <p:nvPicPr>
          <p:cNvPr id="2774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775" name="" descr=""/>
          <p:cNvPicPr/>
          <p:nvPr/>
        </p:nvPicPr>
        <p:blipFill>
          <a:blip r:embed="rId3"/>
          <a:stretch/>
        </p:blipFill>
        <p:spPr>
          <a:xfrm>
            <a:off x="6172200" y="685800"/>
            <a:ext cx="1889280" cy="1917720"/>
          </a:xfrm>
          <a:prstGeom prst="rect">
            <a:avLst/>
          </a:prstGeom>
          <a:ln w="0">
            <a:noFill/>
          </a:ln>
        </p:spPr>
      </p:pic>
      <p:pic>
        <p:nvPicPr>
          <p:cNvPr id="2776" name="" descr=""/>
          <p:cNvPicPr/>
          <p:nvPr/>
        </p:nvPicPr>
        <p:blipFill>
          <a:blip r:embed="rId4"/>
          <a:stretch/>
        </p:blipFill>
        <p:spPr>
          <a:xfrm>
            <a:off x="914400" y="3733920"/>
            <a:ext cx="1163520" cy="1827000"/>
          </a:xfrm>
          <a:prstGeom prst="rect">
            <a:avLst/>
          </a:prstGeom>
          <a:ln w="0">
            <a:noFill/>
          </a:ln>
        </p:spPr>
      </p:pic>
      <p:pic>
        <p:nvPicPr>
          <p:cNvPr id="2777" name="" descr=""/>
          <p:cNvPicPr/>
          <p:nvPr/>
        </p:nvPicPr>
        <p:blipFill>
          <a:blip r:embed="rId5"/>
          <a:stretch/>
        </p:blipFill>
        <p:spPr>
          <a:xfrm>
            <a:off x="3505320" y="914400"/>
            <a:ext cx="1904760" cy="1436760"/>
          </a:xfrm>
          <a:prstGeom prst="rect">
            <a:avLst/>
          </a:prstGeom>
          <a:ln w="0">
            <a:noFill/>
          </a:ln>
        </p:spPr>
      </p:pic>
      <p:pic>
        <p:nvPicPr>
          <p:cNvPr id="2778" name="" descr=""/>
          <p:cNvPicPr/>
          <p:nvPr/>
        </p:nvPicPr>
        <p:blipFill>
          <a:blip r:embed="rId6"/>
          <a:stretch/>
        </p:blipFill>
        <p:spPr>
          <a:xfrm>
            <a:off x="6248520" y="3429000"/>
            <a:ext cx="1807920" cy="1914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842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151b8"/>
                </a:solidFill>
                <a:latin typeface="Arial"/>
              </a:rPr>
              <a:t>В общем очень успешным человеком!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Но кто будет ждать тебя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2" dur="2000" fill="hold"/>
                                        <p:tgtEl>
                                          <p:spTgt spid="2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100000">
              <a:srgbClr val="6b6b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2210040" cy="1770120"/>
          </a:xfrm>
          <a:prstGeom prst="rect">
            <a:avLst/>
          </a:prstGeom>
          <a:ln w="0">
            <a:noFill/>
          </a:ln>
        </p:spPr>
      </p:pic>
      <p:pic>
        <p:nvPicPr>
          <p:cNvPr id="2782" name="" descr=""/>
          <p:cNvPicPr/>
          <p:nvPr/>
        </p:nvPicPr>
        <p:blipFill>
          <a:blip r:embed="rId2"/>
          <a:stretch/>
        </p:blipFill>
        <p:spPr>
          <a:xfrm>
            <a:off x="6705720" y="3809880"/>
            <a:ext cx="1761840" cy="1827360"/>
          </a:xfrm>
          <a:prstGeom prst="rect">
            <a:avLst/>
          </a:prstGeom>
          <a:ln w="0">
            <a:noFill/>
          </a:ln>
        </p:spPr>
      </p:pic>
      <p:pic>
        <p:nvPicPr>
          <p:cNvPr id="2783" name="" descr=""/>
          <p:cNvPicPr/>
          <p:nvPr/>
        </p:nvPicPr>
        <p:blipFill>
          <a:blip r:embed="rId3"/>
          <a:stretch/>
        </p:blipFill>
        <p:spPr>
          <a:xfrm>
            <a:off x="3733920" y="533520"/>
            <a:ext cx="2319120" cy="2260440"/>
          </a:xfrm>
          <a:prstGeom prst="rect">
            <a:avLst/>
          </a:prstGeom>
          <a:ln w="0">
            <a:noFill/>
          </a:ln>
        </p:spPr>
      </p:pic>
      <p:pic>
        <p:nvPicPr>
          <p:cNvPr id="2784" name="" descr=""/>
          <p:cNvPicPr/>
          <p:nvPr/>
        </p:nvPicPr>
        <p:blipFill>
          <a:blip r:embed="rId4"/>
          <a:stretch/>
        </p:blipFill>
        <p:spPr>
          <a:xfrm>
            <a:off x="6862680" y="461880"/>
            <a:ext cx="1952640" cy="2076480"/>
          </a:xfrm>
          <a:prstGeom prst="rect">
            <a:avLst/>
          </a:prstGeom>
          <a:ln w="0">
            <a:noFill/>
          </a:ln>
        </p:spPr>
      </p:pic>
      <p:pic>
        <p:nvPicPr>
          <p:cNvPr id="2785" name="" descr=""/>
          <p:cNvPicPr/>
          <p:nvPr/>
        </p:nvPicPr>
        <p:blipFill>
          <a:blip r:embed="rId5"/>
          <a:stretch/>
        </p:blipFill>
        <p:spPr>
          <a:xfrm>
            <a:off x="990720" y="4495680"/>
            <a:ext cx="1827000" cy="111132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6"/>
          <a:stretch/>
        </p:blipFill>
        <p:spPr>
          <a:xfrm>
            <a:off x="4038480" y="3886200"/>
            <a:ext cx="1600200" cy="1808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марин</cp:lastModifiedBy>
  <dcterms:modified xsi:type="dcterms:W3CDTF">2008-11-18T07:46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