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6091-F1C3-4808-8714-F3275D8C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1732-5195-4B1C-B130-7BA06EFE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AD8-4A5A-47A7-BF70-36407803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A1EE-FBBC-49F3-8B92-49466661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4A67-54DA-4A64-8CD4-F57665FE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7A6D-4DC1-430A-87C9-24EC9DB7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B573-CDFA-4138-8CC5-2D994CE6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3224-A25D-4751-96E2-F0658E4F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708B-DFC3-4FC4-A1E7-D8BCE5CA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993A-6062-42AF-8BBC-E9D4CFFF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5AF7-A69A-4516-AA83-90075D8A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8F5-035F-4D3F-86C9-76179FB5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53C7-E8BF-458C-955A-7D6AE072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ABC2-D08A-4F4A-BDB7-947E9979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8277-EC8A-4348-BA52-96655147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70A6-9692-42AC-B771-CECA4ABE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62D9-2AC6-4905-AE3B-2FE93B94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ACD-7BAE-4747-BD09-20832594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68E-E7DF-4928-A2C5-00786522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331-2B24-4ED1-9E9B-8178FE85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AE53-C188-4375-93B4-DC6302F4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E572-C0C5-4BEE-A689-14FF95F7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249B-B713-4C04-9C15-B4940CC8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1AAA-BECE-4850-A0BB-9F18F8D2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59A0-35C0-42C0-BFED-D99889497A8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592A-11A9-4336-9835-8F4D8BCF83E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mochka.kz/_media/bb6df157e9c74472139201a108283bcc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5"/>
          <p:cNvSpPr txBox="1"/>
          <p:nvPr/>
        </p:nvSpPr>
        <p:spPr>
          <a:xfrm>
            <a:off x="1285920" y="1214280"/>
            <a:ext cx="648180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Курение и здоровь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будущего поко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520" y="2060280"/>
            <a:ext cx="41097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Самый большой вред курение наносит нерожденным детям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5l"/>
          <p:cNvPicPr/>
          <p:nvPr/>
        </p:nvPicPr>
        <p:blipFill>
          <a:blip r:embed="rId1"/>
          <a:stretch/>
        </p:blipFill>
        <p:spPr>
          <a:xfrm>
            <a:off x="4932360" y="2060640"/>
            <a:ext cx="3511440" cy="3529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457200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520" y="1844640"/>
            <a:ext cx="815328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есь никотин, угарный газ, бенз/а/пирен и даже некоторые радиоактивные вещества из сигарет, попадая в организм беременной женщины, после первой же затяжки моментально проникают сквозь плаценту к ребенку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788000" y="1828800"/>
            <a:ext cx="3898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Концентрация всех этих веществ в организме плода гораздо выше, чем крови матери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1l"/>
          <p:cNvPicPr/>
          <p:nvPr/>
        </p:nvPicPr>
        <p:blipFill>
          <a:blip r:embed="rId1"/>
          <a:stretch/>
        </p:blipFill>
        <p:spPr>
          <a:xfrm>
            <a:off x="684360" y="1916280"/>
            <a:ext cx="3816360" cy="37972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25092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76720" y="182880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От никотина возникает спазм сосудов плаценты, и у ребенка возникает кислородное голодание. Ядовитые вещества действуют на все его нежные органы, мешают малышу нормально развиваться.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(30 Kb)"/>
          <p:cNvPicPr/>
          <p:nvPr/>
        </p:nvPicPr>
        <p:blipFill>
          <a:blip r:embed="rId1"/>
          <a:stretch/>
        </p:blipFill>
        <p:spPr>
          <a:xfrm>
            <a:off x="539640" y="549360"/>
            <a:ext cx="2476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932000" y="549360"/>
            <a:ext cx="375444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ьшинство детей, рожденных курильщицами, появляются на свет с низким весом, часто болеют, развиваются медленнее, чем их сверстники, чаще умирают в детств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1174147079_7_9"/>
          <p:cNvPicPr/>
          <p:nvPr/>
        </p:nvPicPr>
        <p:blipFill>
          <a:blip r:embed="rId1"/>
          <a:stretch/>
        </p:blipFill>
        <p:spPr>
          <a:xfrm>
            <a:off x="611280" y="549360"/>
            <a:ext cx="4286160" cy="42861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612360" y="508644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00720" y="620640"/>
            <a:ext cx="418608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Статистика показывает: курение (независимо от количества выкуриваемых сигарет) во время беременности увеличивает риск ее неблагоприятного завершения почти в 2 раза!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6"/>
          <p:cNvPicPr/>
          <p:nvPr/>
        </p:nvPicPr>
        <p:blipFill>
          <a:blip r:embed="rId1"/>
          <a:stretch/>
        </p:blipFill>
        <p:spPr>
          <a:xfrm>
            <a:off x="611280" y="1989000"/>
            <a:ext cx="3889440" cy="36212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324000" y="6310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691920"/>
            <a:ext cx="815328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яснилось, что никотин плохо действует не только на физическое, но и на психическое состояние будущего ребен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мецкие ученые доказали, что для детей курящих матерей уже в раннем возрасте характерны невнимательность, импульсивность и бесполезная сверхактивность, даже уровень умственного развития у них ниже средне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788000" y="1828800"/>
            <a:ext cx="3898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Чаще всего развивается и так называемый </a:t>
            </a:r>
            <a:r>
              <a:rPr b="0" lang="ru-RU" sz="3100" spc="-1" strike="noStrike">
                <a:solidFill>
                  <a:srgbClr val="ffff00"/>
                </a:solidFill>
                <a:latin typeface="Times New Roman"/>
              </a:rPr>
              <a:t>синдром «непоседы Фила» </a:t>
            </a: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— эти дети, как правило, агрессивны и склонны к обману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4l"/>
          <p:cNvPicPr/>
          <p:nvPr/>
        </p:nvPicPr>
        <p:blipFill>
          <a:blip r:embed="rId1"/>
          <a:stretch/>
        </p:blipFill>
        <p:spPr>
          <a:xfrm>
            <a:off x="539640" y="1916280"/>
            <a:ext cx="36561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Английские врачи пришли к выводу, что у детей, чьи матери курили во время беременности, на 40% повышается риск развития аутизма, психической болезни, при которой человек не может контрактовать с окружающей действительностью и ориентируется на мир собственных переживаний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4360" y="2852640"/>
            <a:ext cx="7859520" cy="21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это заболевание, состояние психики, когда человек отстранен от внешнего мира и погружен в себ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684360" y="765000"/>
            <a:ext cx="43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утиз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1536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Человек часто сам себе злейший враг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Цицерон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(40 Kb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989000"/>
            <a:ext cx="554508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ченые предположили, что во всем виновато недостаточное снабжение мозга зародыша кислородом. Кроме того, не исключено, что в никотин влияет на особые гены, отвечающие за психомоторные функци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еждународная группа исследователей из университета Эмори в Атланте (штат Джорджия) обнаружила связь между курением беременных и последующей склонностью детей к преступн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427280" y="1828800"/>
            <a:ext cx="4259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В 2003 году британские ученые выявили зависимость курения на раннем этапе беременности и рождением ребенка с расщелиной лица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1115578166_01_168_2_s"/>
          <p:cNvPicPr/>
          <p:nvPr/>
        </p:nvPicPr>
        <p:blipFill>
          <a:blip r:embed="rId1"/>
          <a:stretch/>
        </p:blipFill>
        <p:spPr>
          <a:xfrm>
            <a:off x="468360" y="2217600"/>
            <a:ext cx="3887640" cy="2916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397080" y="535140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520" y="691920"/>
            <a:ext cx="815328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 словам автора проведенного исследования Питера Мосси (профессора стоматологического факультета университета в Данди), формирование неба происходит на 6-8 неделе беременности, и курение будущей мамы в этот период может проявиться в виде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«волчьей пасти»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или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«заячьей губы»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у ребенк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9640" y="692280"/>
            <a:ext cx="81536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 словам автора проведенного исследования Питера Мосси (профессора стоматологического факультета университета в Данди), формирование неба происходит на 6-8 неделе беременности, и курение будущей мамы в этот период может проявиться в виде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«волчьей пасти»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или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«заячьей губы»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у ребенк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33160" y="1828800"/>
            <a:ext cx="4686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рождённый порок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тия, заключающийся в незаращении верхней челюсти и твёрдого нёба, в результате чего получается расщелина, соединяющая полости рта и но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1116000" y="765000"/>
            <a:ext cx="46418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"Волчья пасть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2" name="Picture 6" descr="волчья пасть"/>
          <p:cNvPicPr/>
          <p:nvPr/>
        </p:nvPicPr>
        <p:blipFill>
          <a:blip r:embed="rId1"/>
          <a:stretch/>
        </p:blipFill>
        <p:spPr>
          <a:xfrm>
            <a:off x="5576760" y="1916280"/>
            <a:ext cx="3024360" cy="3960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435600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851280" y="1828800"/>
            <a:ext cx="4835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Заячья губа,</a:t>
            </a: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 устаревшее название одного из пороков</a:t>
            </a:r>
            <a:r>
              <a:rPr b="0" lang="ru-RU" sz="31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развития</a:t>
            </a:r>
            <a:r>
              <a:rPr b="0" i="1" lang="ru-RU" sz="31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 состоящего в несращении боковых частей верхней губы с её средней частью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755640" y="620640"/>
            <a:ext cx="56894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"Заячья губ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6" name="Picture 6" descr="заячья губа"/>
          <p:cNvPicPr/>
          <p:nvPr/>
        </p:nvPicPr>
        <p:blipFill>
          <a:blip r:embed="rId1"/>
          <a:stretch/>
        </p:blipFill>
        <p:spPr>
          <a:xfrm>
            <a:off x="539640" y="1844640"/>
            <a:ext cx="2970360" cy="3960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395280" y="631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42% матерей, дети которых родились с дефектом лица, курили, будучи беременным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 некурящих матерей такие «неправильные» дети рождались в два раза реже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3520" y="549360"/>
            <a:ext cx="815328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мериканские исследователи доказали, что у женщин, куривших во время беременности, риск косолапости среди таких детей выше на 34%. А если к тому же курение матери сочетается с наследственным фактором, то риск косолапости возрастает в 20 раз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АМЫЕ СВЕЖИЕ НОВОСТ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. Дети женщин, куривших во время беременности, на треть чаще, чем все остальные, рискуют к 16 годам заполучить диабет или ожирение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. У мальчиков, родившихся у курящих матерей, яички имеют меньшие размеры, а концентрация сперматозоидов в сперме в среднем на 20% ниже, чем у детей некурящи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АМЫЕ СВЕЖИЕ НОВОСТ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ак ни парадоксально, о вреде курения человечество узнало только в 50-х годах XX века, а до этого даже врачи были на сто процентов уверены, что табак абсолютно безвреден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. Дети матерей, куривших во время беременности, в несколько раз чаще сами начинают курить, чем дети, чьи матери во время беременности не курил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АМЫЕ СВЕЖИЕ НОВОСТ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00720" y="1828800"/>
            <a:ext cx="418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Бросить курить еще до начала беременности — единственный способ родить здорового ребенк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8l"/>
          <p:cNvPicPr/>
          <p:nvPr/>
        </p:nvPicPr>
        <p:blipFill>
          <a:blip r:embed="rId1"/>
          <a:stretch/>
        </p:blipFill>
        <p:spPr>
          <a:xfrm>
            <a:off x="611280" y="1916280"/>
            <a:ext cx="3870360" cy="38890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325080" y="631044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images10"/>
          <p:cNvPicPr/>
          <p:nvPr/>
        </p:nvPicPr>
        <p:blipFill>
          <a:blip r:embed="rId2"/>
          <a:stretch/>
        </p:blipFill>
        <p:spPr>
          <a:xfrm>
            <a:off x="6516720" y="333360"/>
            <a:ext cx="23623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 середине 1920-х годов молодое советское правительство выпустило агитационный плакат с предупреждением: «Курящие школьники учатся хуже некурящих»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ишь в 1956 году выяснилось, что заядлые курильщики во много раз чаще некурящих болеют сердечно-сосудистыми и легочными заболеваниями, а также раком легких.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356000" y="2204640"/>
            <a:ext cx="433080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ксперименты на животных доказали, что звери от табака гибнут. Видимо, именно тогда возникло выражение: «Капля никотина убивает лошадь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5" descr="camel"/>
          <p:cNvPicPr/>
          <p:nvPr/>
        </p:nvPicPr>
        <p:blipFill>
          <a:blip r:embed="rId1"/>
          <a:stretch/>
        </p:blipFill>
        <p:spPr>
          <a:xfrm>
            <a:off x="611280" y="620640"/>
            <a:ext cx="3448080" cy="5184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4284720" y="404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ИКОТИН УБИВАЕТ НЕ ТОЛЬКО ЛОШАД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764640"/>
            <a:ext cx="81532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Никотин - один из самых опасных ядов растительного происхожден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тицы (воробьи, голуби) погибают, если к их клюву всего лишь поднести стеклянную палочку, смоченную никотин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ролик погибает от 1/4 капли никотина, собака - от 1/2 капл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ля человека смертельная доза никотина составляет от 50 до 100 мг, или 2-3 кап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казалось, что от курения страдают не только легкие, бронхи и сердце, но и ухудшается работа желез внутренней секреции, нарушается пищеварение, портится характер и зубы, снижается потенц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7:57:59Z</dcterms:created>
  <dc:creator>Долгорукова</dc:creator>
  <dc:description/>
  <dc:language>en-US</dc:language>
  <cp:lastModifiedBy>inform_2</cp:lastModifiedBy>
  <dcterms:modified xsi:type="dcterms:W3CDTF">2010-04-06T04:48:09Z</dcterms:modified>
  <cp:revision>23</cp:revision>
  <dc:subject/>
  <dc:title>Слайд 1</dc:title>
</cp:coreProperties>
</file>