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12.png" ContentType="image/pn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A6B3-83BD-4626-A945-05817329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4CC-A53D-44D6-A7EB-F0DF5714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CCA0-C9BB-484B-9E18-A8B79DC5E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4F1-4580-4741-B097-B5851C82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8EBC-7152-4414-A0DA-7752CB00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3CB8D-DCDF-4B94-858F-781F140D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EE2B-DB93-40AF-B423-FDA6616A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1EB6-5150-4F45-838F-9D46E798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5DD0-534E-4622-82A8-EF9B0548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2218-9135-4927-9860-85E96D26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D7C9-B9AA-414A-8CA4-04D9B5E9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436-894A-4593-B32A-642E6B93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B89B-ED9F-4A8C-BC00-51036270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63FD4-526A-45A9-B494-5B460262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34E6-99E8-4475-83B0-EE1914BC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CA9B-40FA-416B-A2DB-0B02A2DD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D37E-F855-461A-8C3F-E408A7024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9DDB-8F1E-40DA-B323-7B41A006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065E-8DA9-4D37-B7EC-ACF92C62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3CE0-8E3D-492D-A8DD-81D93F75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212-8A0C-4AF2-A659-12CA8D15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956-91CC-48F9-A837-8F9FEED2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ECC0-1A7F-4711-A7D2-50DB70D6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A70-EA7E-4ADC-B750-84D8617B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A1BD-12C0-47CD-AFED-2F87B930281F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9D0C-D2A2-4617-BD90-94B78B06E414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7"/>
          <p:cNvSpPr txBox="1"/>
          <p:nvPr/>
        </p:nvSpPr>
        <p:spPr>
          <a:xfrm>
            <a:off x="900000" y="1989000"/>
            <a:ext cx="748692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3366"/>
                  </a:solidFill>
                  <a:miter/>
                </a:ln>
                <a:solidFill>
                  <a:srgbClr val="f8f8f8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Здоровье и наркотики»</a:t>
            </a:r>
            <a:endParaRPr b="0" lang="en-US" sz="1800" spc="1" strike="noStrike">
              <a:ln w="9360">
                <a:solidFill>
                  <a:srgbClr val="003366"/>
                </a:solidFill>
                <a:miter/>
              </a:ln>
              <a:solidFill>
                <a:srgbClr val="f8f8f8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415280" cy="6490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684360" y="404640"/>
            <a:ext cx="302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113" name="WordArt 9"/>
          <p:cNvSpPr txBox="1"/>
          <p:nvPr/>
        </p:nvSpPr>
        <p:spPr>
          <a:xfrm>
            <a:off x="5867280" y="404640"/>
            <a:ext cx="2376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Болез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pic>
        <p:nvPicPr>
          <p:cNvPr id="114" name="Picture 13" descr="J0282741"/>
          <p:cNvPicPr/>
          <p:nvPr/>
        </p:nvPicPr>
        <p:blipFill>
          <a:blip r:embed="rId1"/>
          <a:stretch/>
        </p:blipFill>
        <p:spPr>
          <a:xfrm>
            <a:off x="6588000" y="4076640"/>
            <a:ext cx="897120" cy="897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J0223734"/>
          <p:cNvPicPr/>
          <p:nvPr/>
        </p:nvPicPr>
        <p:blipFill>
          <a:blip r:embed="rId2"/>
          <a:stretch/>
        </p:blipFill>
        <p:spPr>
          <a:xfrm>
            <a:off x="1476360" y="5445000"/>
            <a:ext cx="1728720" cy="1036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J0223737"/>
          <p:cNvPicPr/>
          <p:nvPr/>
        </p:nvPicPr>
        <p:blipFill>
          <a:blip r:embed="rId3"/>
          <a:stretch/>
        </p:blipFill>
        <p:spPr>
          <a:xfrm>
            <a:off x="7380360" y="5229360"/>
            <a:ext cx="1371600" cy="1038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" descr="J0178108"/>
          <p:cNvPicPr/>
          <p:nvPr/>
        </p:nvPicPr>
        <p:blipFill>
          <a:blip r:embed="rId4"/>
          <a:stretch/>
        </p:blipFill>
        <p:spPr>
          <a:xfrm>
            <a:off x="468360" y="4508640"/>
            <a:ext cx="1019160" cy="115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12[1]"/>
          <p:cNvPicPr/>
          <p:nvPr/>
        </p:nvPicPr>
        <p:blipFill>
          <a:blip r:embed="rId5"/>
          <a:stretch/>
        </p:blipFill>
        <p:spPr>
          <a:xfrm>
            <a:off x="7885080" y="3716280"/>
            <a:ext cx="792360" cy="528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2" descr="J0236462"/>
          <p:cNvPicPr/>
          <p:nvPr/>
        </p:nvPicPr>
        <p:blipFill>
          <a:blip r:embed="rId6"/>
          <a:stretch/>
        </p:blipFill>
        <p:spPr>
          <a:xfrm>
            <a:off x="900000" y="306864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20" name="WordArt 24"/>
          <p:cNvSpPr txBox="1"/>
          <p:nvPr/>
        </p:nvSpPr>
        <p:spPr>
          <a:xfrm>
            <a:off x="2050920" y="2205000"/>
            <a:ext cx="5113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Ассоциац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2700000" y="3141720"/>
            <a:ext cx="934920" cy="1150920"/>
          </a:xfrm>
          <a:prstGeom prst="line">
            <a:avLst/>
          </a:prstGeom>
          <a:ln w="60480">
            <a:solidFill>
              <a:srgbClr val="f8f8f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Line 26"/>
          <p:cNvSpPr/>
          <p:nvPr/>
        </p:nvSpPr>
        <p:spPr>
          <a:xfrm>
            <a:off x="5292720" y="3213000"/>
            <a:ext cx="1079640" cy="115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Freeform 29"/>
          <p:cNvSpPr/>
          <p:nvPr/>
        </p:nvSpPr>
        <p:spPr>
          <a:xfrm>
            <a:off x="4332240" y="3068640"/>
            <a:ext cx="347760" cy="3300480"/>
          </a:xfrm>
          <a:prstGeom prst="pie">
            <a:avLst/>
          </a:pr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24" name="Picture 30" descr="7[1]"/>
          <p:cNvPicPr/>
          <p:nvPr/>
        </p:nvPicPr>
        <p:blipFill>
          <a:blip r:embed="rId7"/>
          <a:stretch/>
        </p:blipFill>
        <p:spPr>
          <a:xfrm rot="5400000">
            <a:off x="2054160" y="1625400"/>
            <a:ext cx="952560" cy="238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1" descr="7[1]"/>
          <p:cNvPicPr/>
          <p:nvPr/>
        </p:nvPicPr>
        <p:blipFill>
          <a:blip r:embed="rId8"/>
          <a:stretch/>
        </p:blipFill>
        <p:spPr>
          <a:xfrm rot="5400000">
            <a:off x="6156000" y="1628640"/>
            <a:ext cx="115236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50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500"/>
                            </p:stCondLst>
                            <p:childTnLst>
                              <p:par>
                                <p:cTn id="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424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Здоров буду и денег добуду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Здоровье дороже денег</a:t>
            </a:r>
            <a:br>
              <a:rPr sz="2800"/>
            </a:b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В здоровом теле - здоровый дух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Чистота - залог здоровья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Без болезни и здоровью не рад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Береги платье снову, а здоровье смолоду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971640" y="260280"/>
            <a:ext cx="7056360" cy="14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Пословицы и поговор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о здоровь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67840" cy="8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eorgia"/>
              </a:rPr>
              <a:t>Зависимость от наркотиков- болезнь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Oval 4"/>
          <p:cNvSpPr/>
          <p:nvPr/>
        </p:nvSpPr>
        <p:spPr>
          <a:xfrm>
            <a:off x="324000" y="3500280"/>
            <a:ext cx="3311280" cy="2016360"/>
          </a:xfrm>
          <a:prstGeom prst="ellipse">
            <a:avLst/>
          </a:prstGeom>
          <a:solidFill>
            <a:srgbClr val="6699ff">
              <a:alpha val="41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Эйфория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f8f8f8"/>
                </a:solidFill>
                <a:latin typeface="Georgia"/>
              </a:rPr>
              <a:t>и удовольствие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684360" y="1341360"/>
            <a:ext cx="3095640" cy="1150920"/>
          </a:xfrm>
          <a:prstGeom prst="rect">
            <a:avLst/>
          </a:prstGeom>
          <a:solidFill>
            <a:srgbClr val="6699ff">
              <a:alpha val="41000"/>
            </a:srgbClr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Сначала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1" name="Picture 6" descr="2"/>
          <p:cNvPicPr/>
          <p:nvPr/>
        </p:nvPicPr>
        <p:blipFill>
          <a:blip r:embed="rId1"/>
          <a:stretch/>
        </p:blipFill>
        <p:spPr>
          <a:xfrm rot="2868600">
            <a:off x="1204200" y="2908080"/>
            <a:ext cx="137160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2"/>
          <p:cNvPicPr/>
          <p:nvPr/>
        </p:nvPicPr>
        <p:blipFill>
          <a:blip r:embed="rId2"/>
          <a:stretch/>
        </p:blipFill>
        <p:spPr>
          <a:xfrm rot="19903200">
            <a:off x="3347640" y="3499920"/>
            <a:ext cx="1371600" cy="6858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8"/>
          <p:cNvSpPr/>
          <p:nvPr/>
        </p:nvSpPr>
        <p:spPr>
          <a:xfrm>
            <a:off x="4140360" y="1197000"/>
            <a:ext cx="5003640" cy="4464000"/>
          </a:xfrm>
          <a:custGeom>
            <a:avLst/>
            <a:gdLst>
              <a:gd name="textAreaLeft" fmla="*/ 1142280 w 5003640"/>
              <a:gd name="textAreaRight" fmla="*/ 3861360 w 5003640"/>
              <a:gd name="textAreaTop" fmla="*/ 1018800 h 4464000"/>
              <a:gd name="textAreaBottom" fmla="*/ 3445200 h 446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66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трашный удар</a:t>
            </a:r>
            <a:r>
              <a:rPr b="0" lang="ru-RU" sz="1800" spc="-1" strike="noStrike">
                <a:solidFill>
                  <a:srgbClr val="f8f8f8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34" name="Picture 11" descr="60"/>
          <p:cNvPicPr/>
          <p:nvPr/>
        </p:nvPicPr>
        <p:blipFill>
          <a:blip r:embed="rId3"/>
          <a:stretch/>
        </p:blipFill>
        <p:spPr>
          <a:xfrm>
            <a:off x="6227640" y="3860640"/>
            <a:ext cx="1724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440" y="2205000"/>
            <a:ext cx="8062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крайнее истощение организма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значительная потеря массы тела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упадок физических сил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самая распространенная болезнь среди наркоманов - гепатит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СПИД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539640" y="476280"/>
            <a:ext cx="8353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оследствия употреблени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наркотиков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2060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f8f8f8"/>
                </a:solidFill>
                <a:latin typeface="Georgia"/>
              </a:rPr>
              <a:t>У наркомана пропадают не только социальные рефлексы, но и инстинкт самосохранения и моральная устойчивость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8f8f8"/>
                </a:solidFill>
                <a:latin typeface="Georgia"/>
              </a:rPr>
              <a:t>Появляется полное безразличие к окружению, умственное отупение и снижение интеллекта. Человек становится примитивно эгоистичен.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8" name="WordArt 5"/>
          <p:cNvSpPr txBox="1"/>
          <p:nvPr/>
        </p:nvSpPr>
        <p:spPr>
          <a:xfrm>
            <a:off x="539640" y="476280"/>
            <a:ext cx="7848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Последствия употреблени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наркотиков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eorgia"/>
              </a:rPr>
              <a:t>Статисти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Georgia"/>
              </a:rPr>
              <a:t>Из 1500 зарегистрированных наркоманов, которые умерли в 1997 году, больше 1000 скончались от передозировки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Georgia"/>
              </a:rPr>
              <a:t>За последний год количество ВИЧ-инфецированных увеличилось в ШЕСТЬ раз. 80% из числа вновь заразившихся составляют наркоманы.</a:t>
            </a: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4000" y="2205000"/>
            <a:ext cx="806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Неполноценные дети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Снижение генофонда и вымирание нации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6699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f8f8f8"/>
                </a:solidFill>
                <a:latin typeface="Georgia"/>
              </a:rPr>
              <a:t>А  это  – вопрос безопасности страны!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468360" y="404640"/>
            <a:ext cx="82818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Что же ждет нашу страну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если не остановить эту беду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43" name="Picture 8" descr="J0234760"/>
          <p:cNvPicPr/>
          <p:nvPr/>
        </p:nvPicPr>
        <p:blipFill>
          <a:blip r:embed="rId1"/>
          <a:stretch/>
        </p:blipFill>
        <p:spPr>
          <a:xfrm>
            <a:off x="7667640" y="5300640"/>
            <a:ext cx="9907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0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2b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Рисунок93"/>
          <p:cNvPicPr/>
          <p:nvPr/>
        </p:nvPicPr>
        <p:blipFill>
          <a:blip r:embed="rId1"/>
          <a:stretch/>
        </p:blipFill>
        <p:spPr>
          <a:xfrm>
            <a:off x="611280" y="5084640"/>
            <a:ext cx="798480" cy="1447920"/>
          </a:xfrm>
          <a:prstGeom prst="rect">
            <a:avLst/>
          </a:prstGeom>
          <a:ln w="0">
            <a:noFill/>
          </a:ln>
        </p:spPr>
      </p:pic>
      <p:sp>
        <p:nvSpPr>
          <p:cNvPr id="145" name="WordArt 8"/>
          <p:cNvSpPr txBox="1"/>
          <p:nvPr/>
        </p:nvSpPr>
        <p:spPr>
          <a:xfrm>
            <a:off x="1000080" y="1214280"/>
            <a:ext cx="741672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Здоровье - это не все,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Georgia"/>
              </a:rPr>
              <a:t>но все без здоровья - ничто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Georgia"/>
              <a:ea typeface="Georgi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800" y="1295280"/>
            <a:ext cx="7772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7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16:46:36Z</dcterms:created>
  <dc:creator>Dom</dc:creator>
  <dc:description/>
  <dc:language>en-US</dc:language>
  <cp:lastModifiedBy>inform_2</cp:lastModifiedBy>
  <dcterms:modified xsi:type="dcterms:W3CDTF">2010-04-06T04:38:51Z</dcterms:modified>
  <cp:revision>28</cp:revision>
  <dc:subject/>
  <dc:title>Слайд 1</dc:title>
</cp:coreProperties>
</file>